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C06-DEBE-4908-ABCB-D25F05E7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8FE6-3608-42F1-9379-C6C9B3E8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E9369-3229-47D6-BDEA-CAEFF91C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B8286-ACE3-4B2C-8033-3514A9B1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2A94D-09CC-4282-A255-52CA878F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ADFE1-F81C-4787-9A28-FA77B7B8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03911-11C7-4F29-988C-6F63B4CB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5DD49-FC64-4246-A099-426996CF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0C0B8-7F57-4805-A6D3-8DAAEAE4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FB6C4-D527-4169-8C53-E2E6AE40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A93F0-3B18-4097-8F7C-D0987740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1E9-56AC-48CA-8FC1-45456206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73A-DBBC-4182-9571-80487E52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AE5F-EE51-4E0F-851C-1FC3BE91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F579-99B9-4E21-A1AE-481CA8AD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9BF3-B740-43EC-BD44-3CBA173D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91DE-D908-4658-9202-E8DB4E36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9AB9-5BBB-42F0-B0AF-E153E8E4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600A-384B-4CD8-9998-E1132A96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2571-1E32-4240-B748-FC5BF677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1AE-D04F-43F8-93BF-284B2BC1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EE1A-03BF-4818-B026-35610B79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3F92-27B0-4705-8B7D-09A87B48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2612-D4BA-4CE7-9AA7-DC2A54A7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E819-544B-4FEA-98BE-AD96279B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9F5C-2D15-4CA6-B24C-BB68C3AB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17F31-33EE-4FAC-B9B4-E1EBEE27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26476-B73F-46E0-AAEF-1E216ADC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08E52-F501-4C8A-9E0A-21CDA753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E746-F97C-45AC-96D4-E57BB1F1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B521A-F45C-4F6E-9A35-C3BB06B4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047-AB81-4F38-BFD8-4BA363F3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11A2B-7E7B-4A70-93DA-2DA0C5F5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3D9C-1437-4BEB-9D65-B8E6699A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C674C-34AA-4C09-9D7D-B9CF28E3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7F43F-1653-4484-8247-93977581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82A39-4A30-4688-AAD1-F66ECABB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71B9-7A5F-4561-8857-A01971AE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C1E9-3F86-4E4F-8AB2-966DE5DB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894C2-B8AD-4409-9D50-F8F8530F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F04E-9A20-4FA4-B8A1-5A4BBA83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9099C-F4B3-4DBC-8D30-F17AC7B0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E0A-5EB7-4C87-86C0-56026748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D6B1E-7063-4AC8-829D-A751838D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D732C-DC4F-4784-A8B0-803B64F3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7F3B9-4895-46A3-9ECE-F3B18268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61B6-B8E7-453F-9720-66389C72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AC85B-604D-4648-A654-23EA1C29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FCEC6-6720-4B05-A548-038B5F79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252DF-9B19-469D-9E4B-A1DAF332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BF22C-31D5-44AC-9FBE-43013F6E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F0395-1ECD-423E-83DA-AD3F0983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FC0CD-C491-4794-9E3E-33D015DC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DE1-5C1C-444B-BBA2-44259A5E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D9606-8F98-4BBB-9871-3AA8BC81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B8825-71B5-458F-ACF8-2AEED7E9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2FEF6-2370-4315-AD93-F231AAE7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D49CC-21EC-463F-B1A2-D3F80EC5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E749D-1CAC-4264-A280-940CEFC2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B2B31-2874-4286-9646-18E16BF2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7691B-4EBE-4332-A782-6DA12EAE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B6076-883C-4890-91D7-25CE54E8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80D51-0478-436B-9933-1E483FA8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D5DCB-4B21-49AC-AA6C-D75EEEA5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B17-20D9-4257-BA49-AE1069D6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20C81-D740-42D5-BB27-E764D00B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CD74E-62FF-4A8D-B582-F6B6C732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A2502-5DE8-42D3-B304-278AC580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92B26-E52E-462E-A49B-FC4F8400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F0D6C-5D8E-4072-B1FF-48E2CF33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7A1BB-5CB3-4336-86B2-CE114F65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523FC-3CC9-4A62-824C-C4D3A5A2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56687-3BB4-4350-8B1A-3951158B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41425-EE25-47A0-8853-9B9C042F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5D9BE-BBA3-4D64-A985-586CC57F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AE5-014F-4365-98C6-0C09F611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F9F86-775E-4B91-A1E7-16C2DBF8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82821-AEE5-4EF1-888F-D445B41C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897E4-79FA-43BA-966D-B1E85ABC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DA8D3-6DA9-451E-AD6C-E9CEAB8B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D9005-A089-4915-A3CC-50ABD20E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1D1CC-98AA-4E1E-A76C-2E35047F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F39A0-D56B-457E-B152-2A8A8D55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D2B7F-FC95-42AE-A5A2-E6FE3F75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864E2-4726-4822-AC27-E9F6A099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8FE3F-282C-458F-92DC-A168E1BC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04F-4C19-42DE-BD10-7C321AD7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67862-C350-4E1C-A032-FCFC3B51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8042B-910A-4B95-8311-762DC696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81FEA-117F-4F45-AC2F-F26E1E58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6C833-FD7E-4111-9B6E-0024E74E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C5131-FDBC-4B34-B5B5-CBBB0F46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4754F-9E10-4D4B-BA57-6F65CA24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E0941-8458-4C2D-9D43-D5E37464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9A5FC-9D9B-40FC-A5AB-02AA2446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4677D-B2AD-450D-8FE0-961A287A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1550F-E9AA-4F9D-A992-1E7FAE03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F1E-8FFE-4C72-8197-DF8B7243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F0585-750C-4B43-B3C6-9F5E4180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C4EE4-BC68-4A08-AE5B-9DCD5B07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83505-1786-4C15-93B2-5122905E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3299E-7931-45E8-92AE-7A8BCC03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07004-4D28-41AC-834C-E3F72DC5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D2128-9460-4D23-BE5C-CB54D322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CF525-7471-4C4F-9A05-2D9D063A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7915F-2B78-4B1E-97AF-63299179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84CD9-8BA0-4F10-A93C-6F479889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94583-04CB-443A-89EF-674B0870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C952-2575-4DBC-8043-57A5CBB791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9CB7-ABA3-4D15-8864-6BF1ED4D8A1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6D31-C4DB-42E4-AAAE-BF051868446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6A03-7F78-4DD3-B867-74B2D241A14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8E80-D1C5-4FFA-A636-3C617070A7F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7260-941E-4834-B411-2D8436215C1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78E5-7431-470A-B0E3-47BB4070D61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3D0E-06F4-404D-A14E-51D35A4313B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B747-AF7B-4D7B-9354-F752C5AC71E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90600" y="2030400"/>
            <a:ext cx="8467560" cy="17604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364000" y="5516640"/>
            <a:ext cx="35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Предмет: МХК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Класс: 10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2" name="Рисунок 9" descr="deskto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5"/>
          <p:cNvSpPr/>
          <p:nvPr/>
        </p:nvSpPr>
        <p:spPr>
          <a:xfrm>
            <a:off x="1187280" y="1413000"/>
            <a:ext cx="66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"Я в весеннее поле пошел за цвет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Мне хотелось собрать там фиалок душист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 они показались Так дороги сердц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Что всю ночь там провел средь цветов до рассвета!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Ямабэ Акахи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317520" y="384120"/>
            <a:ext cx="8839080" cy="1792440"/>
          </a:xfrm>
          <a:prstGeom prst="rect">
            <a:avLst/>
          </a:prstGeom>
          <a:ln w="0">
            <a:noFill/>
          </a:ln>
        </p:spPr>
      </p:pic>
      <p:pic>
        <p:nvPicPr>
          <p:cNvPr id="405" name="Содержимое 3" descr="7.jpg"/>
          <p:cNvPicPr/>
          <p:nvPr/>
        </p:nvPicPr>
        <p:blipFill>
          <a:blip r:embed="rId2"/>
          <a:stretch/>
        </p:blipFill>
        <p:spPr>
          <a:xfrm>
            <a:off x="676440" y="2230560"/>
            <a:ext cx="77547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773000"/>
            <a:ext cx="86868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Где можно найти отклики японского искусства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Что характерно для искусства Японии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чему сады являются особым видом японского искусства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ие виды японских садов существуют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 такое идея обретения "пустого сердца", и как она находит выражение в устройстве японского сад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1 урок – знакомство с культурой, религией и традициями Япони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2 урок – японский сад как самобытное искусство Японии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3 урок – творческая работа учеников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4 урок – отчет по проделанной работ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189000" y="450720"/>
            <a:ext cx="891864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2484000" y="1484280"/>
            <a:ext cx="431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Презентаци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Публикаци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Фильм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ообщение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очинение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стория японского са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атьи о японском сад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ад в японском стил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пределение японского са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3760"/>
            <a:ext cx="729144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удентка 4 курса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илологического факультета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41 групп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егесова О.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20:49:11Z</dcterms:created>
  <dc:creator>DNA7 X64</dc:creator>
  <dc:description/>
  <dc:language>en-US</dc:language>
  <cp:lastModifiedBy>DNA7 X64</cp:lastModifiedBy>
  <dcterms:modified xsi:type="dcterms:W3CDTF">2011-04-06T17:37:26Z</dcterms:modified>
  <cp:revision>14</cp:revision>
  <dc:subject/>
  <dc:title>Тема проекта: Искусство японского сада</dc:title>
</cp:coreProperties>
</file>